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05A-7476-45EA-99E3-F17976FA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8CC-2BFE-4C63-AA07-941F91D7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01E-EFAA-4727-8EF4-5141ED58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EF2-88AB-41DC-A45D-23D8BE40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762-6B49-4FEF-A495-39469A9E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2AD-1661-4F07-B4B8-657954E3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3E0-07B5-4EA3-8781-53A35A29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4BB-3617-4399-84ED-8DE924B1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273-361A-4EF1-A4F7-E2BD2CD5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A2A-45DB-4A1E-B46B-346DCF0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9BB-B96A-4D7A-B331-9B7988A1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B3E-7FB9-4B30-9CA3-B84D1DF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A7BF-E8D4-498A-90A9-74C71AC37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360" y="981000"/>
            <a:ext cx="3743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966960"/>
            <a:ext cx="58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1123920"/>
            <a:ext cx="5112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4200" y="44280"/>
            <a:ext cx="7705440" cy="631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1047600"/>
            <a:ext cx="6480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8:36:21Z</dcterms:created>
  <dc:creator>admin</dc:creator>
  <dc:description/>
  <dc:language>en-US</dc:language>
  <cp:lastModifiedBy>eduardo paredes</cp:lastModifiedBy>
  <dcterms:modified xsi:type="dcterms:W3CDTF">2009-02-26T23:32:09Z</dcterms:modified>
  <cp:revision>3</cp:revision>
  <dc:subject/>
  <dc:title>Diapositiva 1</dc:title>
</cp:coreProperties>
</file>